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BF1-E213-4DE3-B74A-BAF60EE1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EE9-D437-4263-94E9-3ED86BF0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61E-3184-4E0E-8240-126F033B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C9D-3668-4CC7-AF7D-306B1D92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476-EA65-4A3C-AD97-08BE3095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9EE-F96D-4A4A-ABD1-AEAAE997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647-7C4D-4995-AAD4-43782520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3A6-D361-41AE-91B5-3E082979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A68-4587-4F91-A364-80A9BCD1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F08-2913-4881-B6E0-B4405DD5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C72-6C38-4FE9-A3D3-F4FFC07D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02F-8FDC-4D7B-A362-C22E4B6E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2ADD-056A-426F-A2B3-F239DC96E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to do over in grou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. 207 #2-26 every other even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. 208 # 50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. 213 #2-26 every other even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. 214 #52 – 56 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eview 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360" y="379800"/>
            <a:ext cx="766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 4.9  - Scientif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 1: Writing and Evaluating Scientif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 2: Calculating with Scientif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273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48320" y="312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4038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8915400" cy="152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6629400" cy="55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1676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1676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.00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7242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.3 x 10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6095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.7 x 10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1600200"/>
            <a:ext cx="7772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.0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.67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.02 x 1.67 = 10.1           *Multiply the numbers out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99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x 10</a:t>
            </a:r>
            <a:r>
              <a:rPr b="0" lang="en-US" sz="1800" spc="-1" strike="noStrike" baseline="30000">
                <a:solidFill>
                  <a:srgbClr val="009900"/>
                </a:solidFill>
                <a:latin typeface="Arial"/>
              </a:rPr>
              <a:t>-27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          * Multiply the powers of 10…add the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0.1 x 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             *Com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1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* Re-write in scientific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618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13716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5.45 x 10</a:t>
            </a:r>
            <a:r>
              <a:rPr b="0" lang="en-US" sz="1600" spc="-1" strike="noStrike" baseline="30000">
                <a:solidFill>
                  <a:srgbClr val="ff0066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3716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2.1 x 10</a:t>
            </a:r>
            <a:r>
              <a:rPr b="0" lang="en-US" sz="1600" spc="-1" strike="noStrike" baseline="30000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438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2,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2438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.0000000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2004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.68 x 10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.002 x 10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273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51055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. 219  #2 – 30 every other even and p.220 #40 – 46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943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Test in a few day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0:02:01Z</dcterms:created>
  <dc:creator>Susannah Graham</dc:creator>
  <dc:description/>
  <dc:language>en-US</dc:language>
  <cp:lastModifiedBy>grahams</cp:lastModifiedBy>
  <dcterms:modified xsi:type="dcterms:W3CDTF">2011-12-14T14:33:43Z</dcterms:modified>
  <cp:revision>3</cp:revision>
  <dc:subject/>
  <dc:title>Homework to do over in groups  p. 207 #2-26 every other even p. 208 # 50 p. 213 #2-26 every other even p. 214 #52 – 56 even</dc:title>
</cp:coreProperties>
</file>